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rcRect l="0" t="814" r="0" b="0"/>
          <a:stretch/>
        </p:blipFill>
        <p:spPr>
          <a:xfrm>
            <a:off x="7648560" y="276120"/>
            <a:ext cx="1368360" cy="482760"/>
          </a:xfrm>
          <a:prstGeom prst="rect">
            <a:avLst/>
          </a:prstGeom>
          <a:ln w="0">
            <a:noFill/>
          </a:ln>
        </p:spPr>
      </p:pic>
      <p:sp>
        <p:nvSpPr>
          <p:cNvPr id="1" name="Text Box 2"/>
          <p:cNvSpPr/>
          <p:nvPr/>
        </p:nvSpPr>
        <p:spPr>
          <a:xfrm>
            <a:off x="8540640" y="6543720"/>
            <a:ext cx="695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D5294EC-1A58-4AC9-8027-26760A678DF3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Picture 3" descr=""/>
          <p:cNvPicPr/>
          <p:nvPr/>
        </p:nvPicPr>
        <p:blipFill>
          <a:blip r:embed="rId3"/>
          <a:srcRect l="0" t="89542" r="0" b="0"/>
          <a:stretch/>
        </p:blipFill>
        <p:spPr>
          <a:xfrm>
            <a:off x="0" y="6813720"/>
            <a:ext cx="9140760" cy="69840"/>
          </a:xfrm>
          <a:prstGeom prst="rect">
            <a:avLst/>
          </a:prstGeom>
          <a:ln w="0">
            <a:noFill/>
          </a:ln>
        </p:spPr>
      </p:pic>
      <p:grpSp>
        <p:nvGrpSpPr>
          <p:cNvPr id="3" name="Group 4"/>
          <p:cNvGrpSpPr/>
          <p:nvPr/>
        </p:nvGrpSpPr>
        <p:grpSpPr>
          <a:xfrm>
            <a:off x="0" y="0"/>
            <a:ext cx="9142560" cy="861840"/>
            <a:chOff x="0" y="0"/>
            <a:chExt cx="9142560" cy="861840"/>
          </a:xfrm>
        </p:grpSpPr>
        <p:pic>
          <p:nvPicPr>
            <p:cNvPr id="4" name="Picture 5" descr=""/>
            <p:cNvPicPr/>
            <p:nvPr/>
          </p:nvPicPr>
          <p:blipFill>
            <a:blip r:embed="rId4"/>
            <a:stretch/>
          </p:blipFill>
          <p:spPr>
            <a:xfrm>
              <a:off x="0" y="6480"/>
              <a:ext cx="9142560" cy="855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" name="Picture 6" descr=""/>
            <p:cNvPicPr/>
            <p:nvPr/>
          </p:nvPicPr>
          <p:blipFill>
            <a:blip r:embed="rId5"/>
            <a:srcRect l="62224" t="0" r="15728" b="0"/>
            <a:stretch/>
          </p:blipFill>
          <p:spPr>
            <a:xfrm>
              <a:off x="7128000" y="0"/>
              <a:ext cx="2014560" cy="85572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1"/>
          <p:cNvSpPr/>
          <p:nvPr/>
        </p:nvSpPr>
        <p:spPr>
          <a:xfrm>
            <a:off x="1447920" y="4530600"/>
            <a:ext cx="63244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Rectangle 2"/>
          <p:cNvSpPr/>
          <p:nvPr/>
        </p:nvSpPr>
        <p:spPr>
          <a:xfrm>
            <a:off x="395280" y="981000"/>
            <a:ext cx="8137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pt-BR" sz="3200" spc="-1" strike="noStrike">
                <a:solidFill>
                  <a:srgbClr val="008080"/>
                </a:solidFill>
                <a:latin typeface="Arial"/>
              </a:rPr>
              <a:t>Ministério da Previdência Soci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pt-BR" sz="2400" spc="-1" strike="noStrike">
                <a:solidFill>
                  <a:srgbClr val="008080"/>
                </a:solidFill>
                <a:latin typeface="Arial"/>
              </a:rPr>
              <a:t>Secretaria de Políticas de Previdência Social - SP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755640" y="2781360"/>
            <a:ext cx="7775640" cy="12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pt-BR" sz="4400" spc="-1" strike="noStrike">
                <a:solidFill>
                  <a:srgbClr val="000080"/>
                </a:solidFill>
                <a:latin typeface="Arial"/>
              </a:rPr>
              <a:t>Os Conselhos de Previdência Socia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Rectangle 4"/>
          <p:cNvSpPr/>
          <p:nvPr/>
        </p:nvSpPr>
        <p:spPr>
          <a:xfrm>
            <a:off x="755640" y="5587920"/>
            <a:ext cx="7543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pt-BR" sz="2800" spc="-1" strike="noStrike">
                <a:solidFill>
                  <a:srgbClr val="008080"/>
                </a:solidFill>
                <a:latin typeface="Arial"/>
              </a:rPr>
              <a:t>Outubro - 201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1135" descr="mps-cabecalho"/>
          <p:cNvPicPr/>
          <p:nvPr/>
        </p:nvPicPr>
        <p:blipFill>
          <a:blip r:embed="rId1"/>
          <a:stretch/>
        </p:blipFill>
        <p:spPr>
          <a:xfrm>
            <a:off x="644400" y="30870360"/>
            <a:ext cx="1362240" cy="3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135" descr="mps-cabecalho"/>
          <p:cNvPicPr/>
          <p:nvPr/>
        </p:nvPicPr>
        <p:blipFill>
          <a:blip r:embed="rId2"/>
          <a:stretch/>
        </p:blipFill>
        <p:spPr>
          <a:xfrm>
            <a:off x="644400" y="31241880"/>
            <a:ext cx="1362240" cy="3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135" descr="mps-cabecalho"/>
          <p:cNvPicPr/>
          <p:nvPr/>
        </p:nvPicPr>
        <p:blipFill>
          <a:blip r:embed="rId3"/>
          <a:stretch/>
        </p:blipFill>
        <p:spPr>
          <a:xfrm>
            <a:off x="709560" y="31213440"/>
            <a:ext cx="1362240" cy="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9" name=""/>
          <p:cNvGraphicFramePr/>
          <p:nvPr/>
        </p:nvGraphicFramePr>
        <p:xfrm>
          <a:off x="457200" y="1182600"/>
          <a:ext cx="8362800" cy="5199120"/>
        </p:xfrm>
        <a:graphic>
          <a:graphicData uri="http://schemas.openxmlformats.org/drawingml/2006/table">
            <a:tbl>
              <a:tblPr/>
              <a:tblGrid>
                <a:gridCol w="1357200"/>
                <a:gridCol w="611280"/>
                <a:gridCol w="444600"/>
                <a:gridCol w="420480"/>
                <a:gridCol w="419400"/>
                <a:gridCol w="419040"/>
                <a:gridCol w="420480"/>
                <a:gridCol w="419040"/>
                <a:gridCol w="419400"/>
                <a:gridCol w="420480"/>
                <a:gridCol w="419040"/>
                <a:gridCol w="419400"/>
                <a:gridCol w="420480"/>
                <a:gridCol w="419040"/>
                <a:gridCol w="420840"/>
                <a:gridCol w="912600"/>
              </a:tblGrid>
              <a:tr h="301680">
                <a:tc gridSpan="16"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perintendência Regional Nordest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9000">
                <a:tc rowSpan="2"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rência Executiva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 rowSpan="2"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ta Instalação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 gridSpan="13"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úmero de Reuniões por ano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ltima Reunião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8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9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tal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8640"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racaju / SE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3/08/0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bril/201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87560"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rreiras / BA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/07/0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bril/200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88640"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pina Grande / PB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6/04/0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zembro/201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87560"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ruaru / PE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/06/0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m Registro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89000"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eira de Santana / BA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/12/0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ubro/200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88640"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ortaleza / CE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5/04/0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gosto/200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87560"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ranhuns / PE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/06/0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ubro/201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88640"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tabuna / BA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/12/0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ubro/201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89000"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mperatriz / MA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5/12/0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ço/200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87560"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ão Pessoa / PB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4/05/0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zembro/201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88640"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uazeiro / BA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/03/0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ço/201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87560"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uazeiro do Norte / CE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/09/0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bril/201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88640"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ceió / AL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2/07/0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zembro/201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89000"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ssoró / RN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/11/0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bril/200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87560"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tal / RN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/09/0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ulho/201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88640"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trolina / PE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9/11/0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gosto/201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89000"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cife / PE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/05/0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m Registro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87200"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lvador / BA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/03/0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ço/200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89000"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nto Antonio de Jesus / BA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/10/0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unho/201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87200"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ão Luís / MA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7/07/0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ço/200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89000"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bral / CE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/05/0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gosto/200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89000"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resina / PI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/01/0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bril/200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87200"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tória da Conquista / BA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/07/0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bril/200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8900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TAL: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7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35" descr="mps-cabecalho"/>
          <p:cNvPicPr/>
          <p:nvPr/>
        </p:nvPicPr>
        <p:blipFill>
          <a:blip r:embed="rId1"/>
          <a:stretch/>
        </p:blipFill>
        <p:spPr>
          <a:xfrm>
            <a:off x="679320" y="31070520"/>
            <a:ext cx="1362240" cy="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1" name=""/>
          <p:cNvGraphicFramePr/>
          <p:nvPr/>
        </p:nvGraphicFramePr>
        <p:xfrm>
          <a:off x="457200" y="1125360"/>
          <a:ext cx="8362800" cy="4967640"/>
        </p:xfrm>
        <a:graphic>
          <a:graphicData uri="http://schemas.openxmlformats.org/drawingml/2006/table">
            <a:tbl>
              <a:tblPr/>
              <a:tblGrid>
                <a:gridCol w="1357200"/>
                <a:gridCol w="611280"/>
                <a:gridCol w="444600"/>
                <a:gridCol w="420480"/>
                <a:gridCol w="419400"/>
                <a:gridCol w="419040"/>
                <a:gridCol w="420480"/>
                <a:gridCol w="419040"/>
                <a:gridCol w="419400"/>
                <a:gridCol w="420480"/>
                <a:gridCol w="419040"/>
                <a:gridCol w="419400"/>
                <a:gridCol w="420480"/>
                <a:gridCol w="419040"/>
                <a:gridCol w="420840"/>
                <a:gridCol w="912600"/>
              </a:tblGrid>
              <a:tr h="497160">
                <a:tc gridSpan="16"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perintendência Regional Norte / Centro Oest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4520">
                <a:tc rowSpan="2"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rência Executiva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 rowSpan="2"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ta Instalação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 gridSpan="13"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úmero de Reuniões por ano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ltima Reunião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23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9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tal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144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apólis / GO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/02/0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ulho/200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7144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elém / PA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/06/0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io/200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7144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oa Vista / RR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/04/0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vembro/200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7144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po Grande / MS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7/07/0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ubro/201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7180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uiabá / MT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4/06/0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vembro/201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7144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trito Federal / DF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/08/0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evereiro/201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7288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urados / MS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8/07/0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ubro/201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7144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oiânia / GO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/08/0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ubro/201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7144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capá / AP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/02/0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io/201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7144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naus / AM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/07/0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gosto/201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7144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lmas / TO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1/08/0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io/200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7144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rto Velho / RO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/06/0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unho/201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7144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io Branco / AC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/08/0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io/200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7180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TAL: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5"/>
          <p:cNvSpPr/>
          <p:nvPr/>
        </p:nvSpPr>
        <p:spPr>
          <a:xfrm>
            <a:off x="611280" y="2421000"/>
            <a:ext cx="799308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BR" sz="3600" spc="-1" strike="noStrike">
                <a:solidFill>
                  <a:srgbClr val="000080"/>
                </a:solidFill>
                <a:latin typeface="Arial"/>
              </a:rPr>
              <a:t>SITUAÇÃO REGIONA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3" name=""/>
          <p:cNvGraphicFramePr/>
          <p:nvPr/>
        </p:nvGraphicFramePr>
        <p:xfrm>
          <a:off x="611280" y="1123920"/>
          <a:ext cx="8064360" cy="5514840"/>
        </p:xfrm>
        <a:graphic>
          <a:graphicData uri="http://schemas.openxmlformats.org/drawingml/2006/table">
            <a:tbl>
              <a:tblPr/>
              <a:tblGrid>
                <a:gridCol w="2109600"/>
                <a:gridCol w="2789280"/>
                <a:gridCol w="3165480"/>
              </a:tblGrid>
              <a:tr h="277920"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PERINTENDÊNCI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TIVO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ATIVO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</a:tr>
              <a:tr h="220680">
                <a:tc rowSpan="2"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Regional Sudeste I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00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4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00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00"/>
                    </a:solidFill>
                  </a:tcPr>
                </a:tc>
              </a:tr>
              <a:tr h="755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Araçatuba, Bauru, Campinas, Jundiaí, Marília, Piracicaba, Ribeirão Preto, Santo André, Santos, São José dos Campos, São José do Rio Preto,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São Paulo, Sorocaba, Taubaté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00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Araraquara, Guarulhos, Osasco, Presidente Prudente, São Bernardo do Campo, São João da Boa Vista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00"/>
                    </a:solidFill>
                  </a:tcPr>
                </a:tc>
              </a:tr>
              <a:tr h="245880">
                <a:tc rowSpan="2"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Regional Sudeste II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8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757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Belo Horizonte, Campos dos Goytacazes, Contagem, Diamantina, Governador Valadares, Montes Claros, Niterói, Ouro Preto, Petrópolis, Rio de Janeiro, Teófilo Otoni, Varginha, Vitória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Barbacena, Divinópolis, Duque de Caxias, Juiz de Fora, Poços de Caldas, Uberaba, Uberlândia, Volta Redonda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264960">
                <a:tc rowSpan="2"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Regional Sul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8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</a:tr>
              <a:tr h="1011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Blumenau, Canoas, Cascavel, Caxias do Sul, Chapecó, Criciúma, Curitiba, Florianópolis, Ijuí, Joinville, Maringá, Novo Hamburgo, Pelotas, Ponta Grossa, Porto Alegre, Santa Maria, Uruguaiana, Passo Fund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Londrina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</a:tr>
              <a:tr h="252360">
                <a:tc rowSpan="2"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Regional Nordest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66f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66f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66ff"/>
                    </a:solidFill>
                  </a:tcPr>
                </a:tc>
              </a:tr>
              <a:tr h="757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Campina Grande, Garanhus, Itabuna,  João Pessoa, Juazeiro, Juazeiro do Norte, Maceió, Natal, Petrolina, Santo Antônio de Jesu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66f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Aracaju, Barreiras, Caruaru, Feira de Santana, Fortaleza, Imperatriz, Mossoró,  Recife, São Luís, Salvador, Sobral, Teresina, Vitória da Conquista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66ff"/>
                    </a:solidFill>
                  </a:tcPr>
                </a:tc>
              </a:tr>
              <a:tr h="271440">
                <a:tc rowSpan="2"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Regional Norte/Centro-Oest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420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Campo Grande, Distrito Federal, Dourados, Goiânia, Macapá, Manau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Anápolis, Belém, Boa Vista, Cuiabá, Palmas, Porto Velho, Rio Branco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279360"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TOT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5"/>
          <p:cNvSpPr/>
          <p:nvPr/>
        </p:nvSpPr>
        <p:spPr>
          <a:xfrm>
            <a:off x="611280" y="2421000"/>
            <a:ext cx="799308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BR" sz="3600" spc="-1" strike="noStrike">
                <a:solidFill>
                  <a:srgbClr val="000080"/>
                </a:solidFill>
                <a:latin typeface="Arial"/>
              </a:rPr>
              <a:t>RESUMO GERA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" name=""/>
          <p:cNvGraphicFramePr/>
          <p:nvPr/>
        </p:nvGraphicFramePr>
        <p:xfrm>
          <a:off x="755640" y="1341360"/>
          <a:ext cx="7848720" cy="3959280"/>
        </p:xfrm>
        <a:graphic>
          <a:graphicData uri="http://schemas.openxmlformats.org/drawingml/2006/table">
            <a:tbl>
              <a:tblPr/>
              <a:tblGrid>
                <a:gridCol w="3032280"/>
                <a:gridCol w="2374920"/>
                <a:gridCol w="2441520"/>
              </a:tblGrid>
              <a:tr h="6033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PERINTENDÊNCI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1e1">
                        <a:alpha val="33000"/>
                      </a:srgbClr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TIVO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>
                        <a:alpha val="32000"/>
                      </a:srgbClr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ATIVO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0000">
                        <a:alpha val="62000"/>
                      </a:srgbClr>
                    </a:solidFill>
                  </a:tcPr>
                </a:tc>
              </a:tr>
              <a:tr h="5587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gional Sudeste 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1e1">
                        <a:alpha val="33000"/>
                      </a:srgbClr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>
                        <a:alpha val="32000"/>
                      </a:srgbClr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0000">
                        <a:alpha val="62000"/>
                      </a:srgbClr>
                    </a:solidFill>
                  </a:tcPr>
                </a:tc>
              </a:tr>
              <a:tr h="5158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gional Sudeste I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1e1">
                        <a:alpha val="33000"/>
                      </a:srgbClr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>
                        <a:alpha val="32000"/>
                      </a:srgbClr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0000">
                        <a:alpha val="62000"/>
                      </a:srgbClr>
                    </a:solidFill>
                  </a:tcPr>
                </a:tc>
              </a:tr>
              <a:tr h="5032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gional Su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1e1">
                        <a:alpha val="33000"/>
                      </a:srgbClr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>
                        <a:alpha val="32000"/>
                      </a:srgbClr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0000">
                        <a:alpha val="62000"/>
                      </a:srgbClr>
                    </a:solidFill>
                  </a:tcPr>
                </a:tc>
              </a:tr>
              <a:tr h="5302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gional Nordest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1e1">
                        <a:alpha val="33000"/>
                      </a:srgbClr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>
                        <a:alpha val="32000"/>
                      </a:srgbClr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0000">
                        <a:alpha val="62000"/>
                      </a:srgbClr>
                    </a:solidFill>
                  </a:tcPr>
                </a:tc>
              </a:tr>
              <a:tr h="6015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gional Norte/Centro-Oest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1e1">
                        <a:alpha val="33000"/>
                      </a:srgbClr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>
                        <a:alpha val="32000"/>
                      </a:srgbClr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0000">
                        <a:alpha val="62000"/>
                      </a:srgbClr>
                    </a:solidFill>
                  </a:tcPr>
                </a:tc>
              </a:tr>
              <a:tr h="646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1e1">
                        <a:alpha val="33000"/>
                      </a:srgbClr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>
                        <a:alpha val="32000"/>
                      </a:srgbClr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0000">
                        <a:alpha val="62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86" name="CaixaDeTexto 3"/>
          <p:cNvSpPr/>
          <p:nvPr/>
        </p:nvSpPr>
        <p:spPr>
          <a:xfrm>
            <a:off x="755640" y="5497560"/>
            <a:ext cx="7848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1400" spc="-1" strike="noStrike">
                <a:solidFill>
                  <a:srgbClr val="ff0000"/>
                </a:solidFill>
                <a:latin typeface="Arial"/>
              </a:rPr>
              <a:t>Observação: O Conselho de Volta Redonda, referente à Superintendência Regional Sudeste II, nunca foi instalado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5"/>
          <p:cNvSpPr/>
          <p:nvPr/>
        </p:nvSpPr>
        <p:spPr>
          <a:xfrm>
            <a:off x="611280" y="2421000"/>
            <a:ext cx="799308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BR" sz="3600" spc="-1" strike="noStrike">
                <a:solidFill>
                  <a:srgbClr val="000080"/>
                </a:solidFill>
                <a:latin typeface="Arial"/>
              </a:rPr>
              <a:t>CRONOGRAMA DE REUNIÕES – CPS - 201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8" name=""/>
          <p:cNvGraphicFramePr/>
          <p:nvPr/>
        </p:nvGraphicFramePr>
        <p:xfrm>
          <a:off x="457200" y="2205000"/>
          <a:ext cx="8272440" cy="3348000"/>
        </p:xfrm>
        <a:graphic>
          <a:graphicData uri="http://schemas.openxmlformats.org/drawingml/2006/table">
            <a:tbl>
              <a:tblPr/>
              <a:tblGrid>
                <a:gridCol w="1236600"/>
                <a:gridCol w="773280"/>
                <a:gridCol w="620640"/>
                <a:gridCol w="473040"/>
                <a:gridCol w="530280"/>
                <a:gridCol w="541440"/>
                <a:gridCol w="463320"/>
                <a:gridCol w="620640"/>
                <a:gridCol w="695520"/>
                <a:gridCol w="695160"/>
                <a:gridCol w="773280"/>
                <a:gridCol w="849240"/>
              </a:tblGrid>
              <a:tr h="579600">
                <a:tc gridSpan="12"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uperintendência Regional Sudeste I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5280"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Gerência-Executiva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evereiro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ço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bril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io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unho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ulho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gosto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tembro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ubro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vembro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zembro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95280"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Jundiaí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a 2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a 2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a 3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a 2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a 2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95280"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arília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a 19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a 19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a 2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a 2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a 1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a 2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a 1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a 2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a 19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96720"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iracicaba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a 2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a 2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a 29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a 2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a 2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a 29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a 2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a 3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a 2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a 2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95280"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anto André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a 0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a 0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a 0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a 0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a 0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a 0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a 0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a 0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a 0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a 0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95280"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mpinas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a 1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a 0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a 1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a 1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a 1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a 09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95280"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antos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a 29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dia 2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dia 2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dia 2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dia 3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dia 2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</a:tbl>
          </a:graphicData>
        </a:graphic>
      </p:graphicFrame>
      <p:sp>
        <p:nvSpPr>
          <p:cNvPr id="89" name="Rectangle 129"/>
          <p:cNvSpPr/>
          <p:nvPr/>
        </p:nvSpPr>
        <p:spPr>
          <a:xfrm>
            <a:off x="457200" y="27687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0" name=""/>
          <p:cNvGraphicFramePr/>
          <p:nvPr/>
        </p:nvGraphicFramePr>
        <p:xfrm>
          <a:off x="468360" y="2492280"/>
          <a:ext cx="8229600" cy="2519280"/>
        </p:xfrm>
        <a:graphic>
          <a:graphicData uri="http://schemas.openxmlformats.org/drawingml/2006/table">
            <a:tbl>
              <a:tblPr/>
              <a:tblGrid>
                <a:gridCol w="1461960"/>
                <a:gridCol w="768600"/>
                <a:gridCol w="558720"/>
                <a:gridCol w="517320"/>
                <a:gridCol w="462240"/>
                <a:gridCol w="537840"/>
                <a:gridCol w="462240"/>
                <a:gridCol w="538200"/>
                <a:gridCol w="691920"/>
                <a:gridCol w="692280"/>
                <a:gridCol w="770040"/>
                <a:gridCol w="768240"/>
              </a:tblGrid>
              <a:tr h="503280">
                <a:tc gridSpan="12">
                  <a:txBody>
                    <a:bodyPr lIns="37800" rIns="3780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uperintendência Regional Sudeste II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4720">
                <a:tc>
                  <a:txBody>
                    <a:bodyPr lIns="37800" rIns="3780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Gerência-Executiva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37800" rIns="3780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evereiro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7800" rIns="3780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ço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7800" rIns="3780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bril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7800" rIns="3780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io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7800" rIns="3780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unho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7800" rIns="3780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ulho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7800" rIns="3780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gosto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7800" rIns="3780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tembro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7800" rIns="3780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ubro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7800" rIns="3780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vembro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7800" rIns="3780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zembro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503280">
                <a:tc>
                  <a:txBody>
                    <a:bodyPr lIns="37800" rIns="3780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Governador Valadares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37800" rIns="3780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7800" rIns="3780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a 1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7800" rIns="3780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a 1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7800" rIns="3780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7800" rIns="3780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a 1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7800" rIns="3780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7800" rIns="3780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a 19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7800" rIns="3780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7800" rIns="3780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a 2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7800" rIns="3780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7800" rIns="3780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a 1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505080">
                <a:tc>
                  <a:txBody>
                    <a:bodyPr lIns="37800" rIns="3780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iamantina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37800" rIns="3780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a 1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7800" rIns="3780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7800" rIns="3780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a 16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7800" rIns="3780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7800" rIns="3780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a 11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7800" rIns="3780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7800" rIns="3780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a 13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7800" rIns="3780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7800" rIns="3780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a 08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7800" rIns="3780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7800" rIns="3780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a 10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502920">
                <a:tc>
                  <a:txBody>
                    <a:bodyPr lIns="37800" rIns="3780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Varginha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37800" rIns="3780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7800" rIns="3780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7800" rIns="3780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7800" rIns="3780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dia 19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7800" rIns="3780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7800" rIns="3780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dia 2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7800" rIns="3780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7800" rIns="3780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7800" rIns="3780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7800" rIns="3780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7800" rIns="3780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" name=""/>
          <p:cNvGraphicFramePr/>
          <p:nvPr/>
        </p:nvGraphicFramePr>
        <p:xfrm>
          <a:off x="457200" y="1484280"/>
          <a:ext cx="8229600" cy="4989600"/>
        </p:xfrm>
        <a:graphic>
          <a:graphicData uri="http://schemas.openxmlformats.org/drawingml/2006/table">
            <a:tbl>
              <a:tblPr/>
              <a:tblGrid>
                <a:gridCol w="1319040"/>
                <a:gridCol w="774720"/>
                <a:gridCol w="547920"/>
                <a:gridCol w="460440"/>
                <a:gridCol w="541080"/>
                <a:gridCol w="515880"/>
                <a:gridCol w="492120"/>
                <a:gridCol w="554040"/>
                <a:gridCol w="698760"/>
                <a:gridCol w="696960"/>
                <a:gridCol w="853920"/>
                <a:gridCol w="774720"/>
              </a:tblGrid>
              <a:tr h="504720">
                <a:tc gridSpan="12"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uperintendência Regional Su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3320"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Gerência-Executiva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evereiro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ço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bril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io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unho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ulho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gosto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tembro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ubro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vembro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zembro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72960"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noas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a 2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74760"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asso Fundo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a 0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a 0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a 0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72960"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jui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a 09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a 1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a 1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a 1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a 09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74760"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onta Grossa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a 1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a 1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a 09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a 1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a 1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a 0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72960"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aringá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a 1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a 09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a 1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a 1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a 0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a 1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74760"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xias do Sul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a 2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a 2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a 3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a 2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a 2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72960"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lorianópolis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a 19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a 2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a 2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a 2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a 19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74760"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elotas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a 0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a 0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a 2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a 0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a 0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72960"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orto Alegr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a 1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a 2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a 19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a 1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a 2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a 1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a 1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a 2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a 1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a 1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74760"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Criciúma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dia 2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dia 29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dia 2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dia 2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dia 29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dia 2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dia 3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dia 2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dia 2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72960"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Londrina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dia 29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dia 1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dia 1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dia 1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dia 09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</a:tbl>
          </a:graphicData>
        </a:graphic>
      </p:graphicFrame>
      <p:sp>
        <p:nvSpPr>
          <p:cNvPr id="92" name="Rectangle 139"/>
          <p:cNvSpPr/>
          <p:nvPr/>
        </p:nvSpPr>
        <p:spPr>
          <a:xfrm>
            <a:off x="457200" y="21304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2"/>
          <p:cNvSpPr/>
          <p:nvPr/>
        </p:nvSpPr>
        <p:spPr>
          <a:xfrm>
            <a:off x="1447920" y="4530600"/>
            <a:ext cx="63244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Rectangle 4"/>
          <p:cNvSpPr/>
          <p:nvPr/>
        </p:nvSpPr>
        <p:spPr>
          <a:xfrm>
            <a:off x="0" y="836640"/>
            <a:ext cx="8893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BR" sz="2800" spc="-1" strike="noStrike">
                <a:solidFill>
                  <a:srgbClr val="000080"/>
                </a:solidFill>
                <a:latin typeface="Arial"/>
              </a:rPr>
              <a:t>O que são os Conselhos de Previdência Social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Text Box 5"/>
          <p:cNvSpPr/>
          <p:nvPr/>
        </p:nvSpPr>
        <p:spPr>
          <a:xfrm>
            <a:off x="250920" y="1413000"/>
            <a:ext cx="856908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 algn="just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m 2003, por força do Decreto nº 4.874, de 11 de novembro, foram criados os Conselhos de Previdência Social - CPS, unidades descentralizadas do Conselho Nacional de Previdência Social – CNPS, vinculadas ou funcionando junto às Gerências-Executivas do Instituto Nacional do Seguro Social - INS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284040" y="3559320"/>
            <a:ext cx="8569440" cy="10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 algn="just">
              <a:buClr>
                <a:srgbClr val="000000"/>
              </a:buClr>
              <a:buFont typeface="Wingdings" charset="2"/>
              <a:buChar char="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ão instâncias colegiadas e têm caráter consultivo e de assessoramento, podendo encaminhar propostas para serem deliberadas no âmbito do CNP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250920" y="4797360"/>
            <a:ext cx="8569080" cy="16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 algn="just">
              <a:buClr>
                <a:srgbClr val="000000"/>
              </a:buClr>
              <a:buFont typeface="Wingdings" charset="2"/>
              <a:buChar char="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s conselhos buscam ampliar o diálogo entre a gerência-executiva do INSS e a sociedade, permitindo que as necessidades específicas de cada localidade no que diz respeito ao debate de políticas públicas e de legislação previdenciárias sejam atendidas de modo mais eficient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" name=""/>
          <p:cNvGraphicFramePr/>
          <p:nvPr/>
        </p:nvGraphicFramePr>
        <p:xfrm>
          <a:off x="457200" y="2421000"/>
          <a:ext cx="8229600" cy="2554200"/>
        </p:xfrm>
        <a:graphic>
          <a:graphicData uri="http://schemas.openxmlformats.org/drawingml/2006/table">
            <a:tbl>
              <a:tblPr/>
              <a:tblGrid>
                <a:gridCol w="1320840"/>
                <a:gridCol w="776160"/>
                <a:gridCol w="558720"/>
                <a:gridCol w="451080"/>
                <a:gridCol w="542880"/>
                <a:gridCol w="542880"/>
                <a:gridCol w="466920"/>
                <a:gridCol w="542880"/>
                <a:gridCol w="698400"/>
                <a:gridCol w="698400"/>
                <a:gridCol w="854280"/>
                <a:gridCol w="776160"/>
              </a:tblGrid>
              <a:tr h="638280">
                <a:tc gridSpan="12"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uperintendência Regional Nordest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9720"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Gerência-Executiva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evereiro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ço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bril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io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unho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ulho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gosto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tembro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ubro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vembro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zembro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637920"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Juazeiro do Nort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a 2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a 2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a 0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a 1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a 1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638280"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Garunhuns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dia 0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dia 0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dia 1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dia 1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</a:tbl>
          </a:graphicData>
        </a:graphic>
      </p:graphicFrame>
      <p:sp>
        <p:nvSpPr>
          <p:cNvPr id="94" name="Rectangle 1"/>
          <p:cNvSpPr/>
          <p:nvPr/>
        </p:nvSpPr>
        <p:spPr>
          <a:xfrm>
            <a:off x="457200" y="33894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5"/>
          <p:cNvSpPr/>
          <p:nvPr/>
        </p:nvSpPr>
        <p:spPr>
          <a:xfrm>
            <a:off x="611280" y="2060640"/>
            <a:ext cx="7632720" cy="36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pt-BR" sz="3600" spc="-1" strike="noStrike">
                <a:solidFill>
                  <a:srgbClr val="3333cc"/>
                </a:solidFill>
                <a:latin typeface="Arial"/>
              </a:rPr>
              <a:t>Muito obrigado</a:t>
            </a:r>
            <a:br>
              <a:rPr sz="3600"/>
            </a:br>
            <a:br>
              <a:rPr sz="3600"/>
            </a:br>
            <a:br>
              <a:rPr sz="2400"/>
            </a:br>
            <a:r>
              <a:rPr b="1" i="1" lang="pt-BR" sz="1800" spc="-1" strike="noStrike">
                <a:solidFill>
                  <a:srgbClr val="3333cc"/>
                </a:solidFill>
                <a:latin typeface="Arial"/>
              </a:rPr>
              <a:t>Contatos:</a:t>
            </a:r>
            <a:br>
              <a:rPr sz="1800"/>
            </a:br>
            <a:r>
              <a:rPr b="1" i="1" lang="pt-BR" sz="1800" spc="-1" strike="noStrike">
                <a:solidFill>
                  <a:srgbClr val="3333cc"/>
                </a:solidFill>
                <a:latin typeface="Arial"/>
              </a:rPr>
              <a:t>Esplanada dos Ministérios, Bloco F, 7º Andar, Sala 735</a:t>
            </a:r>
            <a:br>
              <a:rPr sz="1800"/>
            </a:br>
            <a:r>
              <a:rPr b="1" i="1" lang="pt-BR" sz="1800" spc="-1" strike="noStrike">
                <a:solidFill>
                  <a:srgbClr val="3333cc"/>
                </a:solidFill>
                <a:latin typeface="Arial"/>
              </a:rPr>
              <a:t>Brasília, DF - CEP: 70059-900</a:t>
            </a:r>
            <a:br>
              <a:rPr sz="1800"/>
            </a:br>
            <a:r>
              <a:rPr b="1" i="1" lang="pt-BR" sz="1800" spc="-1" strike="noStrike">
                <a:solidFill>
                  <a:srgbClr val="3333cc"/>
                </a:solidFill>
                <a:latin typeface="Arial"/>
              </a:rPr>
              <a:t>E-mail: cnps@previdencia.gov.br</a:t>
            </a:r>
            <a:br>
              <a:rPr sz="1800"/>
            </a:br>
            <a:r>
              <a:rPr b="1" i="1" lang="pt-BR" sz="1800" spc="-1" strike="noStrike">
                <a:solidFill>
                  <a:srgbClr val="3333cc"/>
                </a:solidFill>
                <a:latin typeface="Arial"/>
              </a:rPr>
              <a:t>Fone: (61) 2021-5164/5301</a:t>
            </a:r>
            <a:br>
              <a:rPr sz="1800"/>
            </a:br>
            <a:r>
              <a:rPr b="1" i="1" lang="pt-BR" sz="1800" spc="-1" strike="noStrike">
                <a:solidFill>
                  <a:srgbClr val="3333cc"/>
                </a:solidFill>
                <a:latin typeface="Arial"/>
              </a:rPr>
              <a:t>Fax: (61) 2021-5345</a:t>
            </a:r>
            <a:r>
              <a:rPr b="1" i="1" lang="pt-BR" sz="24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24000" y="981000"/>
            <a:ext cx="8640720" cy="18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O INSS está estruturado em 5 Superintendências Regionais, localizadas nas cidades de São Paulo, Belo Horizonte, Florianópolis, Recife e Brasíli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ítulo 1"/>
          <p:cNvSpPr/>
          <p:nvPr/>
        </p:nvSpPr>
        <p:spPr>
          <a:xfrm>
            <a:off x="395280" y="3141720"/>
            <a:ext cx="84247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 algn="just">
              <a:buClr>
                <a:srgbClr val="000000"/>
              </a:buClr>
              <a:buFont typeface="Wingdings" charset="2"/>
              <a:buChar char="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Abrangem 104 Gerências Executivas e 1.601 Agências da Previdência Socia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Título 1"/>
          <p:cNvSpPr/>
          <p:nvPr/>
        </p:nvSpPr>
        <p:spPr>
          <a:xfrm>
            <a:off x="358920" y="4508640"/>
            <a:ext cx="8424720" cy="14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 algn="just">
              <a:buClr>
                <a:srgbClr val="000000"/>
              </a:buClr>
              <a:buFont typeface="Wingdings" charset="2"/>
              <a:buChar char="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Apesar de existirem 104 Gerências Executivas do INSS, apenas 96 gerências contam com um CPS em sua estrutura organizaciona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6"/>
          <p:cNvSpPr/>
          <p:nvPr/>
        </p:nvSpPr>
        <p:spPr>
          <a:xfrm>
            <a:off x="108000" y="4797360"/>
            <a:ext cx="8856720" cy="17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Os CPS são compostos por 10 conselheiros, sendo 2 representantes dos trabalhadores, 2 dos empregadores, 2 dos aposentados e pensionistas e 4 do Governo, os quais se reúnem ao menos uma vez por bimestre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700"/>
              </a:spcBef>
              <a:buClr>
                <a:srgbClr val="000000"/>
              </a:buClr>
              <a:buSzPct val="71000"/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tângulo de cantos arredondados 2"/>
          <p:cNvSpPr/>
          <p:nvPr/>
        </p:nvSpPr>
        <p:spPr>
          <a:xfrm>
            <a:off x="3635280" y="1273320"/>
            <a:ext cx="133056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C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tângulo de cantos arredondados 8"/>
          <p:cNvSpPr/>
          <p:nvPr/>
        </p:nvSpPr>
        <p:spPr>
          <a:xfrm>
            <a:off x="1476360" y="2238480"/>
            <a:ext cx="2519280" cy="68580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GOVERN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(4 representante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Retângulo de cantos arredondados 10"/>
          <p:cNvSpPr/>
          <p:nvPr/>
        </p:nvSpPr>
        <p:spPr>
          <a:xfrm>
            <a:off x="4524480" y="2238480"/>
            <a:ext cx="2519280" cy="68580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SOCIEDA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(6 representante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tângulo de cantos arredondados 11"/>
          <p:cNvSpPr/>
          <p:nvPr/>
        </p:nvSpPr>
        <p:spPr>
          <a:xfrm>
            <a:off x="539640" y="3429000"/>
            <a:ext cx="3240360" cy="57636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Times New Roman"/>
              </a:rPr>
              <a:t>APOSENTADOS/PENSIONISTA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Times New Roman"/>
              </a:rPr>
              <a:t>(2 representante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Retângulo de cantos arredondados 12"/>
          <p:cNvSpPr/>
          <p:nvPr/>
        </p:nvSpPr>
        <p:spPr>
          <a:xfrm>
            <a:off x="3924360" y="3429000"/>
            <a:ext cx="2448000" cy="57636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Times New Roman"/>
              </a:rPr>
              <a:t>TRABALHADOR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Times New Roman"/>
              </a:rPr>
              <a:t>(2 representante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Retângulo de cantos arredondados 13"/>
          <p:cNvSpPr/>
          <p:nvPr/>
        </p:nvSpPr>
        <p:spPr>
          <a:xfrm>
            <a:off x="6516720" y="3429000"/>
            <a:ext cx="2448000" cy="57636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Times New Roman"/>
              </a:rPr>
              <a:t>EMPREGADOR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Times New Roman"/>
              </a:rPr>
              <a:t>(2 representante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Conector reto 14"/>
          <p:cNvSpPr/>
          <p:nvPr/>
        </p:nvSpPr>
        <p:spPr>
          <a:xfrm>
            <a:off x="4300560" y="1882800"/>
            <a:ext cx="0" cy="177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Conector reto 16"/>
          <p:cNvSpPr/>
          <p:nvPr/>
        </p:nvSpPr>
        <p:spPr>
          <a:xfrm flipH="1">
            <a:off x="2734920" y="2060640"/>
            <a:ext cx="29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63" name="Conector de seta reta 19"/>
          <p:cNvCxnSpPr/>
          <p:nvPr/>
        </p:nvCxnSpPr>
        <p:spPr>
          <a:xfrm>
            <a:off x="5724000" y="2060640"/>
            <a:ext cx="1080" cy="17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4" name="Conector de seta reta 21"/>
          <p:cNvCxnSpPr>
            <a:endCxn id="56" idx="0"/>
          </p:cNvCxnSpPr>
          <p:nvPr/>
        </p:nvCxnSpPr>
        <p:spPr>
          <a:xfrm flipH="1">
            <a:off x="2734560" y="2060640"/>
            <a:ext cx="1080" cy="17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5" name="Conector reto 23"/>
          <p:cNvSpPr/>
          <p:nvPr/>
        </p:nvSpPr>
        <p:spPr>
          <a:xfrm>
            <a:off x="5651640" y="292428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Conector reto 25"/>
          <p:cNvSpPr/>
          <p:nvPr/>
        </p:nvSpPr>
        <p:spPr>
          <a:xfrm flipH="1">
            <a:off x="2484000" y="3213000"/>
            <a:ext cx="532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67" name="Conector de seta reta 27"/>
          <p:cNvCxnSpPr/>
          <p:nvPr/>
        </p:nvCxnSpPr>
        <p:spPr>
          <a:xfrm>
            <a:off x="2484000" y="3213000"/>
            <a:ext cx="108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8" name="Conector de seta reta 30"/>
          <p:cNvCxnSpPr/>
          <p:nvPr/>
        </p:nvCxnSpPr>
        <p:spPr>
          <a:xfrm>
            <a:off x="7811640" y="3213000"/>
            <a:ext cx="108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9" name="Conector de seta reta 4096"/>
          <p:cNvCxnSpPr>
            <a:endCxn id="59" idx="0"/>
          </p:cNvCxnSpPr>
          <p:nvPr/>
        </p:nvCxnSpPr>
        <p:spPr>
          <a:xfrm>
            <a:off x="5148000" y="3213000"/>
            <a:ext cx="108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6"/>
          <p:cNvSpPr/>
          <p:nvPr/>
        </p:nvSpPr>
        <p:spPr>
          <a:xfrm>
            <a:off x="108000" y="4653000"/>
            <a:ext cx="885672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700"/>
              </a:spcBef>
              <a:buClr>
                <a:srgbClr val="000000"/>
              </a:buClr>
              <a:buSzPct val="71000"/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ada representante tem como principal atribuição identificar características da Previdência que possam ser aperfeiçoadas; fazer propostas para melhorar a gestão do sistema previdenciário; facilitar o desenvolvimento e solidificação da gestão democrática e próxima dos cidadãos, além de exercer o controle social sobre a administração públic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700"/>
              </a:spcBef>
              <a:buClr>
                <a:srgbClr val="000000"/>
              </a:buClr>
              <a:buSzPct val="71000"/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700"/>
              </a:spcBef>
              <a:buClr>
                <a:srgbClr val="000000"/>
              </a:buClr>
              <a:buSzPct val="71000"/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2249640" y="1031760"/>
            <a:ext cx="4410000" cy="36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5"/>
          <p:cNvSpPr/>
          <p:nvPr/>
        </p:nvSpPr>
        <p:spPr>
          <a:xfrm>
            <a:off x="611280" y="2421000"/>
            <a:ext cx="799308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BR" sz="3600" spc="-1" strike="noStrike">
                <a:solidFill>
                  <a:srgbClr val="000080"/>
                </a:solidFill>
                <a:latin typeface="Arial"/>
              </a:rPr>
              <a:t>QUADRO DE REUNIÕES – CP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BR" sz="3600" spc="-1" strike="noStrike">
                <a:solidFill>
                  <a:srgbClr val="000080"/>
                </a:solidFill>
                <a:latin typeface="Arial"/>
              </a:rPr>
              <a:t>2004 - 201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250920" y="1052640"/>
          <a:ext cx="8642160" cy="5472000"/>
        </p:xfrm>
        <a:graphic>
          <a:graphicData uri="http://schemas.openxmlformats.org/drawingml/2006/table">
            <a:tbl>
              <a:tblPr/>
              <a:tblGrid>
                <a:gridCol w="1403280"/>
                <a:gridCol w="631800"/>
                <a:gridCol w="458640"/>
                <a:gridCol w="433440"/>
                <a:gridCol w="433440"/>
                <a:gridCol w="434880"/>
                <a:gridCol w="433440"/>
                <a:gridCol w="433440"/>
                <a:gridCol w="433440"/>
                <a:gridCol w="433440"/>
                <a:gridCol w="434880"/>
                <a:gridCol w="433440"/>
                <a:gridCol w="433440"/>
                <a:gridCol w="433440"/>
                <a:gridCol w="433080"/>
                <a:gridCol w="944640"/>
              </a:tblGrid>
              <a:tr h="307800">
                <a:tc gridSpan="16"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perintendência Regional Sudeste I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3000">
                <a:tc rowSpan="2"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rência Executiva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 rowSpan="2"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ta Instalação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 gridSpan="13"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úmero de Reuniões por ano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ltima Reunião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43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9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tal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356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raçatuba / SP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3/09/0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ço/201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2248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raraquara / SP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/07/0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vembro/200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2212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uru / SP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3/06/0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io/201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2392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pinas / SP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/10/0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io/201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2212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uarulhos / SP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7/06/0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evereiro/200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2212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undiaí / SP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/10/0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eiro/201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2248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ília / SP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/05/0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ço/201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2392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sasco / SP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5/02/0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unho/201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2212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iracicaba / SP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/10/0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unho/201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2212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sidente Prudente / SP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/04/0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gosto/200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2392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ibeirão Preto / SP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/05/0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tembro/201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2212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nto Andre / SP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/06/0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zembro/201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2248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ntos / SP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/05/0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bril/201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2392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ão Bernardo do Campo/SP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/11/0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unho/200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2212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ão João da Boa Vista / SP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4/08/0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ço/201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2212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ão José do Rio Preto / SP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/05/0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unho/201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2392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ão José dos Campos / SP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/02/0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vembro/201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2212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ão Paulo/Leste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/04/0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vembro/201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2248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rocaba / SP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5/05/0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vembro/201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2392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ubaté / SP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/10/0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bril/201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2212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TAL: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"/>
          <p:cNvGraphicFramePr/>
          <p:nvPr/>
        </p:nvGraphicFramePr>
        <p:xfrm>
          <a:off x="457200" y="1197000"/>
          <a:ext cx="8435880" cy="5256360"/>
        </p:xfrm>
        <a:graphic>
          <a:graphicData uri="http://schemas.openxmlformats.org/drawingml/2006/table">
            <a:tbl>
              <a:tblPr/>
              <a:tblGrid>
                <a:gridCol w="1370160"/>
                <a:gridCol w="615960"/>
                <a:gridCol w="447480"/>
                <a:gridCol w="424080"/>
                <a:gridCol w="423720"/>
                <a:gridCol w="422280"/>
                <a:gridCol w="423720"/>
                <a:gridCol w="424080"/>
                <a:gridCol w="422280"/>
                <a:gridCol w="423720"/>
                <a:gridCol w="423720"/>
                <a:gridCol w="424080"/>
                <a:gridCol w="422280"/>
                <a:gridCol w="423720"/>
                <a:gridCol w="424080"/>
                <a:gridCol w="920520"/>
              </a:tblGrid>
              <a:tr h="285840">
                <a:tc gridSpan="16"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perintendência Regional Sudeste II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07720">
                <a:tc rowSpan="2"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rência Executiva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 rowSpan="2"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ta Instalação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 gridSpan="13"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úmero de Reuniões por ano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ltima Reunião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06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9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tal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0628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rbacena / MG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/04/0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vembro/200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0808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elo Horizonte / MG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/02/0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io/201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0628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pos dos Goytacazes/RJ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/05/0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bril/201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0772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agem / MG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/03/0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unho/201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0664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amantina / MG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/05/0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ulho/201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0772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vinópolis / MG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/03/0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gosto/200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0664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uque de Caxias / RJ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4/03/0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ulho/200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0772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overnador Valadares/MG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/06/0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zembro/201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0664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uiz de Fora / MG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6/12/0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gosto/200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0772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ntes Claros / MG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/05/0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unho/201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0664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iterói / RJ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/06/0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io/201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0628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ro Preto / MG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1/04/0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vembro/201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0808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trópolis / RJ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1/05/0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bril/201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0628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ços de Caldas / MG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/04/0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tembro/200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0772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io de Janeiro / RJ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/05/0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evereiro/201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0664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ófilo Otoni / MG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/06/1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bril//201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0772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beraba / MG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2/04/0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bril/200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0664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berlândia / MG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/03/0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bril/200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0772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rginha / MG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6/04/0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ulho/201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0664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tória / ES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/09/0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bril/201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0772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olta Redonda / RJ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ão Instalado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ão Instalado.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0664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TAL: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2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250920" y="1052640"/>
          <a:ext cx="8642160" cy="5400720"/>
        </p:xfrm>
        <a:graphic>
          <a:graphicData uri="http://schemas.openxmlformats.org/drawingml/2006/table">
            <a:tbl>
              <a:tblPr/>
              <a:tblGrid>
                <a:gridCol w="1403280"/>
                <a:gridCol w="631800"/>
                <a:gridCol w="458640"/>
                <a:gridCol w="433440"/>
                <a:gridCol w="433440"/>
                <a:gridCol w="434880"/>
                <a:gridCol w="433440"/>
                <a:gridCol w="433440"/>
                <a:gridCol w="433440"/>
                <a:gridCol w="433440"/>
                <a:gridCol w="434880"/>
                <a:gridCol w="433440"/>
                <a:gridCol w="433440"/>
                <a:gridCol w="433440"/>
                <a:gridCol w="433080"/>
                <a:gridCol w="944640"/>
              </a:tblGrid>
              <a:tr h="342720">
                <a:tc gridSpan="16"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perintendência Regional Su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0400">
                <a:tc rowSpan="2"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rência Executiva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 rowSpan="2"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ta Instalação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 gridSpan="13"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úmero de Reuniões por ano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ltima Reunião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30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9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tal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004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lumenau / SC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/05/0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ço/201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2860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oas / RS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/05/0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evereiro/201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3040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cavel / PR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/08/0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gosto/201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3004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xias do Sul / RS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/08/0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io/201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3040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apecó / SC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3/06/0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ulho/201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3004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riciúma / SC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/06/0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io/201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2860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uritiba / PR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3/05/0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ubro/201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3004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lorianópolis / SC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/06/0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io/201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3040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juí / RS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/10/0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io/201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3004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inville / SC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/05/0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tembro/201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3040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ndrina / PR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/06/0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ço/201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3004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ingá / PR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/08/0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unho/201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2860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vo Hamburgo / RS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4/08/0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ço/201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3004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sso Fundo / RS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5/12/0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bril/201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3040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lotas / RS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8/11/0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vembro/201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3004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nta Grossa / PR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/08/0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zembro/201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3040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rto Alegre / RS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4/08/0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ço/201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2860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nta Maria / RS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/10/0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tembro/201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3004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ruguaiana / RS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6/11/0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ço/201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3040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TAL: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7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Zila de Jesus de Oliveira - MPS</cp:lastModifiedBy>
  <cp:lastPrinted>2015-03-12T22:39:06Z</cp:lastPrinted>
  <dcterms:modified xsi:type="dcterms:W3CDTF">2015-10-22T19:17:43Z</dcterms:modified>
  <cp:revision>215</cp:revision>
  <dc:subject/>
  <dc:title>Slide 1</dc:title>
</cp:coreProperties>
</file>